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EDB-DDCF-41C1-96D4-043C457DB8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EB3-8E1C-43C6-A35E-B642C20F98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7B4A-C7C8-4545-A459-207ADBF4B3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C6E-068C-4FD9-8438-5B6EAA8AB7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EFC-AE8F-495A-BEED-4175C3E1B3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7ED-BBD7-493F-B204-FD4E7EECC0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224-02F6-4BFD-B734-6457E1FCF2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A20D-BAC5-4E3A-BB85-C09F9C357E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96D-C5D1-4991-9E57-E67D637157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D69D-D9B6-4CE7-885D-032C3E1C16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481-036B-4EDF-AE5A-D1CB0A4E01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AFFA-5C4B-4EE8-B7F3-A905E84C7C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D88-19EC-495D-920E-A933C22472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25E-0C6C-4AB4-A2B9-6D30607BBC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A96-CA49-4F1B-92AC-DC8F9F4DEB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6C40-0913-4A36-A491-5A198AA040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B5FE-1274-48EE-A7B8-A1685032BC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2C3-5A0A-47E6-B534-E28AE13AC0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C63-7A46-494B-A961-E21E2D4652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1005-8A5E-49DF-A1A0-1FD3DFF73C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A449-99AC-47A5-9049-984B758E6C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4E37-71C7-4E96-B3C7-D4FAE4CDA2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5F9-9B8C-4C2C-89C2-FBE5C82F0D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4C0-B094-43D5-B464-15FBD9AF74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004C-661A-4059-9BD7-3AF2D7B6DC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3B7-C196-4A3C-AA84-095E341C8D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5B4-F740-4870-B0F7-9385427664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368-2712-4311-9194-C9FB0F1435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ACB-FF29-4F0F-AC21-91A276EA70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43CF-003A-4C69-9C36-B97EDA4F72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6F8-57BE-4865-9748-42894A581A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F74-8097-41B6-864C-7B74ADE6E0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C53-B72A-40E9-841B-ECD8FCBB6E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145-AFBE-4E79-BDFC-DCFF9BA2A1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EE6-8891-4390-A20C-3B5D3E48FC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CD5-B8D9-470D-BC26-0A97CD772F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09C-A261-4224-B294-A8EA346281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F39D-4E15-49E8-B2A4-2AAB9E111E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FBF4-BFF4-4F71-A7EE-4E8FB5DD03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40C7-07EF-4EA7-AF85-50458A2F5C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48D-320F-47F6-962E-DCBE95BFD6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717A-817D-49EB-9C14-28FA97EC29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5CD-BBD3-41BA-B1ED-5C225918EF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754-7D25-43F1-8C15-6B5CF85FFD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F09-AD33-4B78-AA9F-3003996E02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EA5-27EE-40D1-9A8B-26263B3A61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B2DC-077E-4437-97D0-974C9C04FF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726-12E8-4A08-9855-658EBBEC3E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A75-B2DD-415E-86AF-E25E34AF66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961-9E3B-4E09-B1CC-B39E53C80C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D46-410C-46BC-8CC9-321A55FC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9D0-3B4D-45A9-904E-C4669812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E93-3609-4522-AE0C-7C86D73F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47C-3603-4840-8D55-E436DAE6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2D5-A07C-4CE0-ABF5-8AE865D8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940-0D12-49EB-AF2A-A913D190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F01-AEF9-4628-8BB7-BFEDA04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A51-D4FE-4CF6-8BBE-58D1BA7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D57-478D-4716-9A11-67C7481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5F0-B9D3-4213-A171-3F30CFA6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5FF-8F5E-43C9-BBD3-D672731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7E5-8286-4D63-B82E-118260F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C6AF-8FA5-4BEA-B5AF-9C240EA4D7C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읽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ián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저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발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shē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어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越来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uèláiyuè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점 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觉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느끼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通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ōngguò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를 통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反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ǎnf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반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水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p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提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íg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높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d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단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를 위하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目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ùb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목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x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계속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령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头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uf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카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기 능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联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ánx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해서는 안 된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런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抽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ōuy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담배 피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批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īp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꾸짖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ǒ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ìfa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马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ǎshà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平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평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广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uǎngb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라디오 방송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决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留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학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i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닫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부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解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해결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结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éh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결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yì 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동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찬성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당기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了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oj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팔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무서워하다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두려워하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基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特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èb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특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担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걱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互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ùxi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6:40:12Z</dcterms:created>
  <dc:creator>System</dc:creator>
  <dc:description/>
  <dc:language>en-US</dc:language>
  <cp:lastModifiedBy>System</cp:lastModifiedBy>
  <dcterms:modified xsi:type="dcterms:W3CDTF">2014-01-27T07:32:33Z</dcterms:modified>
  <cp:revision>6</cp:revision>
  <dc:subject/>
  <dc:title>슬라이드 1</dc:title>
</cp:coreProperties>
</file>